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92A-451C-422C-B6A8-0C0D0683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EB3-E4B7-4B5C-9426-71EBA76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C59-DCAF-42AC-996E-25DDD6B3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430-54A1-481A-83FC-80F1CF99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B9D-3CF1-4215-A7DC-587F377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136-6318-433B-9CFC-AFA4698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39E-80CE-4DDD-9E02-734136D3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A45-9030-4047-823B-11F66DBE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E03-446B-4504-9B50-D6C20B4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709-9822-4B6C-89EC-335AAE5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59-6FA5-4190-ADEA-946B677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42C-64AF-46CF-8F6D-BB8391D5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3FC-630C-4777-8DD5-901766BB0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C:/Users/&#1041;&#1086;&#1088;&#1080;&#1089;/Desktop/www.shkola-abv.ru" TargetMode="External"/><Relationship Id="rId4" Type="http://schemas.openxmlformats.org/officeDocument/2006/relationships/hyperlink" Target="file:///C:/Users/&#1041;&#1086;&#1088;&#1080;&#1089;/Desktop/www.shkola-abv.ru" TargetMode="External"/><Relationship Id="rId5" Type="http://schemas.openxmlformats.org/officeDocument/2006/relationships/hyperlink" Target="file:///C:/Users/&#1041;&#1086;&#1088;&#1080;&#1089;/Desktop/www.shkola-abv.ru" TargetMode="External"/><Relationship Id="rId6" Type="http://schemas.openxmlformats.org/officeDocument/2006/relationships/hyperlink" Target="file:///C:/Users/&#1041;&#1086;&#1088;&#1080;&#1089;/Desktop/www.shkola-abv.ru" TargetMode="External"/><Relationship Id="rId7" Type="http://schemas.openxmlformats.org/officeDocument/2006/relationships/hyperlink" Target="file:///C:/Users/&#1041;&#1086;&#1088;&#1080;&#1089;/Desktop/www.shkola-abv.ru" TargetMode="External"/><Relationship Id="rId8" Type="http://schemas.openxmlformats.org/officeDocument/2006/relationships/hyperlink" Target="file:///C:/Users/&#1041;&#1086;&#1088;&#1080;&#1089;/Desktop/www.shkola-abv.ru" TargetMode="External"/><Relationship Id="rId9" Type="http://schemas.openxmlformats.org/officeDocument/2006/relationships/hyperlink" Target="file:///C:/Users/&#1041;&#1086;&#1088;&#1080;&#1089;/Desktop/www.shkola-abv.ru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un9-23.userapi.com/impg/B3yTa6suDMJUaFapYJP5Uch5pJMIHVYfRP_NwQ/_Y5q0UI0GrY.jpg?size=640x480&amp;quality=95&amp;sign=f84c1333ef6ef7fa9a2d3f28ef297a87&amp;type=album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sun9-57.userapi.com/impg/MLXKBtwAQ33lM0WHMfpLRnWtqc2cmWSwSpoRvg/_yJY0dsVyPU.jpg?size=720x960&amp;quality=95&amp;sign=dcbc44dbda3ff567bc9c4d86a402e408&amp;type=album"/>
          <p:cNvPicPr/>
          <p:nvPr/>
        </p:nvPicPr>
        <p:blipFill>
          <a:blip r:embed="rId1"/>
          <a:stretch/>
        </p:blipFill>
        <p:spPr>
          <a:xfrm>
            <a:off x="2340000" y="404640"/>
            <a:ext cx="4535640" cy="604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sun9-80.userapi.com/impg/VV6WvplYCBfSruWoiIsmm_enPad4dA63K2DG6w/UT6VrElnUNU.jpg?size=736x544&amp;quality=95&amp;sign=e78796e560d826919400028bcd96ef44&amp;type=album"/>
          <p:cNvPicPr/>
          <p:nvPr/>
        </p:nvPicPr>
        <p:blipFill>
          <a:blip r:embed="rId1"/>
          <a:stretch/>
        </p:blipFill>
        <p:spPr>
          <a:xfrm>
            <a:off x="174600" y="0"/>
            <a:ext cx="89694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15.userapi.com/impg/pMsZIwYPmabuPV0U9_BQOL6eh-ccyWnPK3wItQ/upa58B-BShU.jpg?size=425x493&amp;quality=95&amp;sign=5eacf8d9d40aac20d31323c7bd508319&amp;type=album"/>
          <p:cNvPicPr/>
          <p:nvPr/>
        </p:nvPicPr>
        <p:blipFill>
          <a:blip r:embed="rId1"/>
          <a:stretch/>
        </p:blipFill>
        <p:spPr>
          <a:xfrm>
            <a:off x="3419640" y="404640"/>
            <a:ext cx="5128920" cy="5948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Эмблема круг"/>
          <p:cNvPicPr/>
          <p:nvPr/>
        </p:nvPicPr>
        <p:blipFill>
          <a:blip r:embed="rId2"/>
          <a:stretch/>
        </p:blipFill>
        <p:spPr>
          <a:xfrm>
            <a:off x="1116000" y="414972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1800" y="537300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03T12:15:56Z</dcterms:created>
  <dc:creator>Елена Берюхова</dc:creator>
  <dc:description/>
  <dc:language>en-US</dc:language>
  <cp:lastModifiedBy>Берюхов</cp:lastModifiedBy>
  <dcterms:modified xsi:type="dcterms:W3CDTF">2026-02-18T15:00:42Z</dcterms:modified>
  <cp:revision>3</cp:revision>
  <dc:subject/>
  <dc:title>Слайд 1</dc:title>
</cp:coreProperties>
</file>